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10158413" cy="7621588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03192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79744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6640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03192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79744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D4E60-1AD4-4115-945E-0A4508DA3C5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7A1D1-687E-4554-804F-00C55475C47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AECCC-3399-4742-A9E4-F5E411290B4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C363D-B292-471D-B976-D51936A50DC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4C917-7570-4578-B1B3-E86FE62926A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66400" y="139320"/>
            <a:ext cx="448308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43DF8-80D6-42CE-BB92-452A3C99671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4434D-D8FE-4AD8-B35D-38028572D6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95773-2660-4C87-973D-5C95360047F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957E3-9E5D-4BC1-B697-A01413F62EE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4DA3A-B8F7-46EA-A533-FC5A4C3384E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0FD9A-4331-4E10-AACC-CC0C56A420B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03192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79744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6640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03192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79744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75955-5C87-42EE-90A1-63BD07C7DB4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266400" y="139320"/>
            <a:ext cx="448308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3192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79744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26640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03192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79744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66400" y="139320"/>
            <a:ext cx="448308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rcRect l="28214" t="291" r="0" b="6895"/>
          <a:stretch/>
        </p:blipFill>
        <p:spPr>
          <a:xfrm>
            <a:off x="6807240" y="1981080"/>
            <a:ext cx="3230640" cy="41306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2"/>
          <p:cNvSpPr/>
          <p:nvPr/>
        </p:nvSpPr>
        <p:spPr>
          <a:xfrm>
            <a:off x="-12600" y="1981080"/>
            <a:ext cx="622080" cy="414036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9880560" y="291960"/>
            <a:ext cx="152280" cy="7340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AutoShape 4"/>
          <p:cNvSpPr/>
          <p:nvPr/>
        </p:nvSpPr>
        <p:spPr>
          <a:xfrm flipH="1" rot="21566400">
            <a:off x="9866880" y="-25560"/>
            <a:ext cx="162000" cy="3272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Rectangle 5"/>
          <p:cNvSpPr/>
          <p:nvPr/>
        </p:nvSpPr>
        <p:spPr>
          <a:xfrm rot="10800000">
            <a:off x="444600" y="1898640"/>
            <a:ext cx="164880" cy="39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3"/>
          <a:stretch/>
        </p:blipFill>
        <p:spPr>
          <a:xfrm>
            <a:off x="614520" y="6553080"/>
            <a:ext cx="1855800" cy="714600"/>
          </a:xfrm>
          <a:prstGeom prst="rect">
            <a:avLst/>
          </a:prstGeom>
          <a:ln w="0">
            <a:noFill/>
          </a:ln>
        </p:spPr>
      </p:pic>
      <p:sp>
        <p:nvSpPr>
          <p:cNvPr id="6" name="AutoShape 9"/>
          <p:cNvSpPr/>
          <p:nvPr/>
        </p:nvSpPr>
        <p:spPr>
          <a:xfrm rot="10765800">
            <a:off x="456840" y="5789160"/>
            <a:ext cx="152280" cy="3286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7" name="Picture 10" descr=""/>
          <p:cNvPicPr/>
          <p:nvPr/>
        </p:nvPicPr>
        <p:blipFill>
          <a:blip r:embed="rId4"/>
          <a:stretch/>
        </p:blipFill>
        <p:spPr>
          <a:xfrm>
            <a:off x="603360" y="1981080"/>
            <a:ext cx="6194160" cy="414828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1"/>
          <p:cNvSpPr/>
          <p:nvPr/>
        </p:nvSpPr>
        <p:spPr>
          <a:xfrm>
            <a:off x="6789600" y="2273400"/>
            <a:ext cx="152640" cy="38574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AutoShape 12"/>
          <p:cNvSpPr/>
          <p:nvPr/>
        </p:nvSpPr>
        <p:spPr>
          <a:xfrm rot="21566400">
            <a:off x="6794280" y="1968120"/>
            <a:ext cx="152280" cy="330120"/>
          </a:xfrm>
          <a:prstGeom prst="rtTriangle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10023480" y="-19080"/>
            <a:ext cx="149400" cy="76518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-50760" y="-22320"/>
            <a:ext cx="7061040" cy="2054160"/>
          </a:xfrm>
          <a:prstGeom prst="rect">
            <a:avLst/>
          </a:prstGeom>
          <a:solidFill>
            <a:srgbClr val="1c5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406440" indent="-216000">
              <a:spcBef>
                <a:spcPts val="1100"/>
              </a:spcBef>
              <a:buClr>
                <a:srgbClr val="1c589d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2" marL="673200" indent="-254160">
              <a:spcBef>
                <a:spcPts val="1100"/>
              </a:spcBef>
              <a:buClr>
                <a:srgbClr val="5a6c5f"/>
              </a:buClr>
              <a:buSzPct val="64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3" marL="171468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7524720" y="6670800"/>
            <a:ext cx="2013120" cy="774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1"/>
          </p:nvPr>
        </p:nvSpPr>
        <p:spPr>
          <a:xfrm>
            <a:off x="495252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3C73D-D4AD-4FFF-8D2A-E7A6FD250196}" type="slidenum">
              <a:rPr b="0" lang="en-US" sz="12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3"/>
          <a:srcRect l="0" t="34227" r="255" b="459"/>
          <a:stretch/>
        </p:blipFill>
        <p:spPr>
          <a:xfrm>
            <a:off x="8013600" y="-3240"/>
            <a:ext cx="2146320" cy="2022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4"/>
          <a:srcRect l="27090" t="0" r="0" b="24901"/>
          <a:stretch/>
        </p:blipFill>
        <p:spPr>
          <a:xfrm>
            <a:off x="5078520" y="-19080"/>
            <a:ext cx="3076560" cy="20527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8"/>
          <p:cNvSpPr/>
          <p:nvPr/>
        </p:nvSpPr>
        <p:spPr>
          <a:xfrm>
            <a:off x="8094600" y="-6480"/>
            <a:ext cx="84240" cy="203832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Rectangle 9"/>
          <p:cNvSpPr/>
          <p:nvPr/>
        </p:nvSpPr>
        <p:spPr>
          <a:xfrm rot="10800000">
            <a:off x="5079600" y="-19080"/>
            <a:ext cx="152280" cy="179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AutoShape 10"/>
          <p:cNvSpPr/>
          <p:nvPr/>
        </p:nvSpPr>
        <p:spPr>
          <a:xfrm flipH="1" rot="10766400">
            <a:off x="5079600" y="1763280"/>
            <a:ext cx="152280" cy="3301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3" descr=""/>
          <p:cNvPicPr/>
          <p:nvPr/>
        </p:nvPicPr>
        <p:blipFill>
          <a:blip r:embed="rId2"/>
          <a:srcRect l="28214" t="291" r="0" b="6895"/>
          <a:stretch/>
        </p:blipFill>
        <p:spPr>
          <a:xfrm>
            <a:off x="6807240" y="1981080"/>
            <a:ext cx="3230640" cy="4130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4"/>
          <p:cNvSpPr/>
          <p:nvPr/>
        </p:nvSpPr>
        <p:spPr>
          <a:xfrm>
            <a:off x="-12600" y="1981080"/>
            <a:ext cx="622080" cy="414036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9880560" y="291960"/>
            <a:ext cx="152280" cy="7340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AutoShape 5"/>
          <p:cNvSpPr/>
          <p:nvPr/>
        </p:nvSpPr>
        <p:spPr>
          <a:xfrm flipH="1" rot="21566400">
            <a:off x="9866880" y="-25560"/>
            <a:ext cx="162000" cy="3272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Rectangle 17"/>
          <p:cNvSpPr/>
          <p:nvPr/>
        </p:nvSpPr>
        <p:spPr>
          <a:xfrm rot="10800000">
            <a:off x="444600" y="1898640"/>
            <a:ext cx="164880" cy="39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98" name="Picture 18" descr=""/>
          <p:cNvPicPr/>
          <p:nvPr/>
        </p:nvPicPr>
        <p:blipFill>
          <a:blip r:embed="rId3"/>
          <a:stretch/>
        </p:blipFill>
        <p:spPr>
          <a:xfrm>
            <a:off x="614520" y="6553080"/>
            <a:ext cx="1855800" cy="71460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9"/>
          <p:cNvSpPr/>
          <p:nvPr/>
        </p:nvSpPr>
        <p:spPr>
          <a:xfrm rot="10765800">
            <a:off x="456840" y="5789160"/>
            <a:ext cx="152280" cy="3286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0" name="Picture 10" descr=""/>
          <p:cNvPicPr/>
          <p:nvPr/>
        </p:nvPicPr>
        <p:blipFill>
          <a:blip r:embed="rId4"/>
          <a:stretch/>
        </p:blipFill>
        <p:spPr>
          <a:xfrm>
            <a:off x="603360" y="1981080"/>
            <a:ext cx="6194160" cy="41482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1"/>
          <p:cNvSpPr/>
          <p:nvPr/>
        </p:nvSpPr>
        <p:spPr>
          <a:xfrm>
            <a:off x="6789600" y="2273400"/>
            <a:ext cx="152640" cy="38574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AutoShape 12"/>
          <p:cNvSpPr/>
          <p:nvPr/>
        </p:nvSpPr>
        <p:spPr>
          <a:xfrm rot="21566400">
            <a:off x="6794280" y="1968120"/>
            <a:ext cx="152280" cy="330120"/>
          </a:xfrm>
          <a:prstGeom prst="rtTriangle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10023480" y="-19080"/>
            <a:ext cx="149400" cy="76518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4" name="Picture 15" descr="H&amp;V Logo"/>
          <p:cNvPicPr/>
          <p:nvPr/>
        </p:nvPicPr>
        <p:blipFill>
          <a:blip r:embed="rId5"/>
          <a:stretch/>
        </p:blipFill>
        <p:spPr>
          <a:xfrm>
            <a:off x="8432640" y="6400800"/>
            <a:ext cx="121932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bluecrossma.com/" TargetMode="Externa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bluecrossma.com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luecrossma.com/" TargetMode="Externa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36200" y="-360"/>
            <a:ext cx="8636040" cy="18622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US" sz="3800" spc="-1" strike="noStrike">
                <a:solidFill>
                  <a:srgbClr val="5a6c5f"/>
                </a:solidFill>
                <a:latin typeface="Garamond"/>
              </a:rPr>
              <a:t>MIIA - Blue Cross Blue Shield Proposed Benefits </a:t>
            </a:r>
            <a:endParaRPr b="0" lang="en-US" sz="3800" spc="-1" strike="noStrike">
              <a:solidFill>
                <a:srgbClr val="5a6c5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Out-Of-Pocket Maximu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7960" y="2590560"/>
            <a:ext cx="922032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urrent Plan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600 Enhanced Tier admission out of pocket maximum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1200 out of pocket maximum for Standard or basic tier admissio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300. out of pocket maximum for Surgical Day Care Admissions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ew Plan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1200 out of pocket maximum for all inpatient admission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600 out of pocket maximum for surgical day care admission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55320" y="45684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ealthy Livi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22000" y="228564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$150 Fitness Benef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$150 Weight Loss Benef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hildbirth Class Benef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ving Healthy Babi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lue Care Line:  1-888-247-BLUE (2583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ving Healthy Vision Discou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ving Healthy Naturally Discou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afe Beginnings Discou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79000" y="30456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ember Central Accoun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45680" y="228564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Visit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bluecrossma.co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reate An Online Account, Then You Can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hange Your PCP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quest An ID Car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view Your Plan Benef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view Your Claim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rack Your Deductible &amp; Coinsuranc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nroll In My Blue Health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2438280"/>
            <a:ext cx="9067680" cy="4546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or Provider Information Or Question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On Your Membership, Benefits, Referrals Or Claim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all Member Service Toll-free Number On ID Car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onday - Friday, 8 a.m. - 6 p.m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Or Visit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bluecrossma.co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lan Offerings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MO Blue New England (HMO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lue Care Elect Preferred  (PPO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3"/>
          <p:cNvSpPr/>
          <p:nvPr/>
        </p:nvSpPr>
        <p:spPr>
          <a:xfrm>
            <a:off x="495288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7F33D-BC53-403F-94CB-694115AC3678}" type="slidenum">
              <a:rPr b="0" lang="en-US" sz="1200" spc="-1" strike="noStrike">
                <a:solidFill>
                  <a:srgbClr val="000000"/>
                </a:solidFill>
                <a:latin typeface="Gill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MO Blue New England HMO Blu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60240" y="2514240"/>
            <a:ext cx="88394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Use HMO Blue Network Provider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CP Required – Change Anytime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ferrals To Network Specialis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Referrals For:  OB/GYN Care, Chiropractic Care, Outpatient Behavioral Health Visits, Routine Vision Exam, Emergency Or Out-Of-Area Urgent Car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lue Care Elect Preferred (PPO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6400" y="3048120"/>
            <a:ext cx="8178840" cy="3581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Primary Care Physician Neede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Referrals Needed For Specialty Car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ational Network – Ability to have services rendered out of state at the same out of pocket cost as HMO member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66092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ind A Blue  Cross Network Provide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12880" y="281916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Visi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bluecrossma.co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all Physician Selection Service 1-800-821-1388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sk Your Providers If They Are In The HMO Blue Network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roposed Chang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6400" y="2590920"/>
            <a:ext cx="8178840" cy="403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ddition of a plan year deductible for some services - $250 Per Individual, $750 Per Family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imary Care Physician Office Visits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pecialist Office Vis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mergency Room Vis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RI, CT and PET Scan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escription Drug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3"/>
          <p:cNvSpPr/>
          <p:nvPr/>
        </p:nvSpPr>
        <p:spPr>
          <a:xfrm>
            <a:off x="495288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A6C95-40EA-434C-AE45-9D6C3813316B}" type="slidenum">
              <a:rPr b="0" lang="en-US" sz="1200" spc="-1" strike="noStrike">
                <a:solidFill>
                  <a:srgbClr val="000000"/>
                </a:solidFill>
                <a:latin typeface="Gill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rvices That Are Not Subject to the Deduct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03040" y="2057400"/>
            <a:ext cx="9956880" cy="5105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9000"/>
          </a:bodyPr>
          <a:p>
            <a:pPr marL="226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ERVICES THAT ARE NOT SUBJECT TO DEDUCTIBL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reventive Visits, Related Tests &amp; Immunizations: You Pay $0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no change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Diagnostic PCP, OB/GYN, Nurse Practitioner Visits:  You Pay $20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oday you pay $10 to $20 per visit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Mental Health Office Visits You Pay $15 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(today you pay $10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Other Professional Providers &amp; Specialist Visits: You Pay $35. (t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oday you pay $2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rescription Drugs   You Pay 10/25/50 for a 30 day supply, 20/50/110 through Mail Service. (t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oday you have a 10/20/40 for retail, 20/40/90 mail.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Chiropractic Visits – You pay $20 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(today you pay $15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hort Term Rehabilitation Therapy – You Pay $20 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oday you pay $1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peech, hearing, and language disorder treatment – You Pay $20 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oday you pay $1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2036520" indent="0">
              <a:spcBef>
                <a:spcPts val="36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3"/>
          <p:cNvSpPr/>
          <p:nvPr/>
        </p:nvSpPr>
        <p:spPr>
          <a:xfrm>
            <a:off x="495288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BF24D-509F-412D-8395-9656F4BBBDB3}" type="slidenum">
              <a:rPr b="0" lang="en-US" sz="1200" spc="-1" strike="noStrike">
                <a:solidFill>
                  <a:srgbClr val="000000"/>
                </a:solidFill>
                <a:latin typeface="Gill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rvices Subject To The Deduct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79360" y="2133360"/>
            <a:ext cx="9524880" cy="510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After You Pay $250/$750. Plan Year Deductible, Then: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Diagnostic Labs, X-Rays &amp; Other Tests: You Pay  $0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have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CT, Pet Scans and MRI - $100 per category of tests ( 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0 with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Emergency Room: You Pay $100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100 with no deductible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Inpatient Admissions:  You Pay $300 at a lower cost hospital, $700 at a higher cost hospital.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200 for Lower cost hospitals and $400 for higher cost hospital with no deductible)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Surgical Day Care – You Pay $150 per admission after deductible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150 and have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Hospice and Home Health Care - $0 after deductible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 (today you pay nothing with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Durable Medical Equipment 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You Pay $0 after Deductible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(today you pay $0 with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Prosthetic Devices – You pay Nothing after deductible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 –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(today you pay 20% co-insuranc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0">
              <a:lnSpc>
                <a:spcPct val="80000"/>
              </a:lnSpc>
              <a:spcBef>
                <a:spcPts val="36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Why Change?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enefits will not change for a period agreed upon by management and labor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hidden out of pocket cos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off anniversary rates increas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eductible is plan year not calendar year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Cashman Elementary School</cp:lastModifiedBy>
  <dcterms:modified xsi:type="dcterms:W3CDTF">2012-05-09T12:26:38Z</dcterms:modified>
  <cp:revision>546</cp:revision>
  <dc:subject/>
  <dc:title>Corporate Update &amp; Vision for Affordability</dc:title>
</cp:coreProperties>
</file>